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2F1-34DC-48E1-BA54-B245D9F8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00A-6B7C-4BCC-9AE0-CF7A78D0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2E6-A4B9-4F32-A8FD-09409DD4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E9B-A7E9-4972-A94A-5E43672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43C-F6B2-4424-B249-25106AE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E86-7C67-4F49-AC6E-FBB70D7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0D0-2F65-4585-A463-600AD8C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AE4-687B-48B7-A9A3-A21227C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544-CE27-4A4A-8D31-326B6E90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F0E-5046-4AF5-8778-6FC9F6B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80F-C2C8-4C4A-BCA9-880FB751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517-ED96-40AE-A2E8-B084E23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2ECA-48E6-4D0E-BC15-3A8F4CABF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dwilliams2\AppData\Local\Microsoft\Windows\Temporary Internet Files\Content.IE5\WGVGCCAF\MC900023301[1].wmf"/>
          <p:cNvPicPr/>
          <p:nvPr/>
        </p:nvPicPr>
        <p:blipFill>
          <a:blip r:embed="rId1"/>
          <a:stretch/>
        </p:blipFill>
        <p:spPr>
          <a:xfrm>
            <a:off x="76320" y="46080"/>
            <a:ext cx="6629400" cy="894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dwilliams2\AppData\Local\Microsoft\Windows\Temporary Internet Files\Content.IE5\2DC45C48\MC900434461[1].wmf"/>
          <p:cNvPicPr/>
          <p:nvPr/>
        </p:nvPicPr>
        <p:blipFill>
          <a:blip r:embed="rId2"/>
          <a:stretch/>
        </p:blipFill>
        <p:spPr>
          <a:xfrm>
            <a:off x="2479680" y="1371600"/>
            <a:ext cx="1822320" cy="130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10T17:43:00Z</dcterms:modified>
  <cp:revision>2</cp:revision>
  <dc:subject/>
  <dc:title>PowerPoint Presentation</dc:title>
</cp:coreProperties>
</file>